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7027920" cy="9313920"/>
          </a:xfrm>
          <a:custGeom>
            <a:avLst/>
            <a:gdLst>
              <a:gd name="textAreaLeft" fmla="*/ 360 w 7027920"/>
              <a:gd name="textAreaRight" fmla="*/ 7027560 w 7027920"/>
              <a:gd name="textAreaTop" fmla="*/ 360 h 9313920"/>
              <a:gd name="textAreaBottom" fmla="*/ 9313560 h 9313920"/>
            </a:gdLst>
            <a:ahLst/>
            <a:rect l="textAreaLeft" t="textAreaTop" r="textAreaRight" b="textAreaBottom"/>
            <a:pathLst>
              <a:path w="21600" h="28626">
                <a:moveTo>
                  <a:pt x="4" y="0"/>
                </a:moveTo>
                <a:arcTo wR="4" hR="4" stAng="16200000" swAng="-5400000"/>
                <a:lnTo>
                  <a:pt x="0" y="28622"/>
                </a:lnTo>
                <a:arcTo wR="4" hR="4" stAng="10800000" swAng="-5400000"/>
                <a:lnTo>
                  <a:pt x="21596" y="2862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981240" y="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5480" y="698040"/>
            <a:ext cx="465444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6360" y="4422600"/>
            <a:ext cx="5151240" cy="4189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36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98124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99B83C-9CA1-485E-BED9-F9DEB10934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F7A014-5053-4B44-B84E-E0070ADC11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24CB71-3AA3-4A02-9BEF-A6C3ACF1E5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3B7111-6D55-433A-B566-B0F4315E1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C2E762-F716-4450-A536-21FDED3CF0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D93658-65B3-4352-A3AF-A30E8FD66E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F2F566-C361-482B-8D57-FB0BBAC39E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4B3428-B5D5-4BAC-A8FA-AD1F3520EB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EDC0F9-1387-4394-AEA5-1D2E2BD1F0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24FA52-5031-400A-A36E-A8E3FC1CEF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776EDE-19A9-45AF-9675-8A1A1FE051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385818-2978-48CF-A480-E68860096C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44DB6B-2A08-4370-95F1-6F1A03C30F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9900AB-2B1F-4E9A-AA98-2A18221EA1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005A69-222B-4B3D-A08C-A6AB994073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814F97-D351-45FF-B604-6D18FA8F84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3761A9-0B05-4040-9688-563ADBA17F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BE3D99-9A14-4007-9ED1-22A51C50F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BF4034-D294-47D0-811E-8B95C5D0AC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BB3543-93B4-4294-9E72-29EAAD2CDB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53D394-6A61-4D3F-9005-A4DE1D23B2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05DEEB-5260-4E2B-9AFF-D45E755A09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FD1606-CB56-426D-8527-356E6818D3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33F943-9030-40B5-B6F8-ABEF63CB82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2ECDC3-4430-40DC-B957-7A2DFC997E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F36F9C-F41B-4B4F-BFD8-9094DE355F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5ECDA4-884B-49A8-BA2A-9B60710B47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BB7DEF-EC4C-465B-A702-F09AB855E8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8ED7FF-A0BB-4194-B858-7CF59365D0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6332FD-3AFB-4FFE-B57E-26B1C0C68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F66496-D67E-48F8-AD48-7A63283B07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CAB7F0-48D6-4F88-AC68-A72ABBE939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D88D4D-18CA-4AF7-8480-903DD8A2E4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98E03A-884C-4918-A305-51E769F220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170C95-2D39-41F7-8FBA-B294E78A73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2250CC-2988-49A0-AF7E-E15B3723D1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6440D3-4F3E-4581-B7A0-EABD7CF3DC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9CADCF-5BDA-461B-9648-76D7E7E324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82CC55-1ADC-407A-A9F2-ACA61FFFE6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867E90-FC08-4CCF-BC90-0D9C0019C1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E797D0-9BCD-4C78-98C2-0AF7FBD10A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F5D8A8-27EF-4E65-9906-4337ABF3E4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39C4BC-3963-45F2-AA9B-4C0BFBD73C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F91DF1-032A-46E2-A18D-E1805CF6A7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CE6E15-C54B-4FDA-9059-51728B22B3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EF79C7-ACB7-4157-BB5D-FF4AF27E51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028A67-88B0-427C-BDC9-B5A8E36546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926DA5-3102-4C87-8119-2698AA1F20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6E77B1-8EFD-46BE-B095-AB3690C331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00E3DC-B314-4451-8FF9-07CE52229A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3E39B3-3692-4B43-996A-2C62C324C3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FB2BAB-3F57-4427-B8B0-169192F1DF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11B5EC-1EAE-464A-B000-4321EFA731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156902-22C6-4175-A871-779290BCE2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BA39A0-B87A-4866-A67D-9712DFCD9C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3B00DA-F129-40E4-959B-4258743737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A93F26-88BC-4FCE-9523-77434B7F1C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11303B-6B9B-4422-A1A8-358F46C995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1E9283-1C05-49CE-AD6C-EDB69E9870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DB4FB1-41FB-4662-85B6-50793DC5F0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81600" y="8847000"/>
            <a:ext cx="3043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EBF132-4182-4FB3-8275-9F283619E8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53040" cy="41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3EFC1-0708-425C-BFDB-82B42B191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324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0440" cy="236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57840"/>
            <a:ext cx="8380440" cy="236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870D6-8B0B-4840-9C72-0E697A55E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324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89600" cy="236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1280" y="1371600"/>
            <a:ext cx="4089600" cy="236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57840"/>
            <a:ext cx="4089600" cy="236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1280" y="3957840"/>
            <a:ext cx="4089600" cy="236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C9B3-7C2B-4358-ADAA-84666E3F3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324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98200" cy="236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400" y="1371600"/>
            <a:ext cx="2698200" cy="236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3960" y="1371600"/>
            <a:ext cx="2698200" cy="236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57840"/>
            <a:ext cx="2698200" cy="236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400" y="3957840"/>
            <a:ext cx="2698200" cy="236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3960" y="3957840"/>
            <a:ext cx="2698200" cy="236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FBEBF-C2FD-40D2-8B77-2469FCD584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324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3804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7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8136B-F87F-4AC7-A22F-45E0BF7D6A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324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044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607BD-E8A6-4D47-98C4-4853773E4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324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8960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1280" y="1371600"/>
            <a:ext cx="408960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B5B8C-FEE5-4E73-9930-F900D9F77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324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DDB92-801E-443B-930B-FDA8C8AB5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92324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0922-B2C9-458A-AB24-EDC266868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324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89600" cy="236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1280" y="1371600"/>
            <a:ext cx="408960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57840"/>
            <a:ext cx="4089600" cy="236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C541-6094-449E-BA54-02A65856F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324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8960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1280" y="1371600"/>
            <a:ext cx="4089600" cy="236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1280" y="3957840"/>
            <a:ext cx="4089600" cy="236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AF4D-CA79-489B-B693-6FC023EBA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324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89600" cy="236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1280" y="1371600"/>
            <a:ext cx="4089600" cy="236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57840"/>
            <a:ext cx="8380440" cy="236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AE78C-C245-4667-BD75-785A79293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324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38044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Object 3"/>
          <p:cNvGraphicFramePr/>
          <p:nvPr/>
        </p:nvGraphicFramePr>
        <p:xfrm>
          <a:off x="8458200" y="0"/>
          <a:ext cx="6858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Text Box 4"/>
          <p:cNvSpPr/>
          <p:nvPr/>
        </p:nvSpPr>
        <p:spPr>
          <a:xfrm>
            <a:off x="8610480" y="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552720"/>
            <a:ext cx="69325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0992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0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BD041-4AE5-4BDF-89AF-CBEB4F46745E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Systems Analysis and Design in a Changing World, Fourth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32127F-43B7-42C7-8DDE-FF40C231D5C2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itional Predictive Approach to the SD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lanning phase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initial phase of the SDLC, whose objective is to identify the new system scope and plan the pro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lanning a project involves the following five activiti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 the probl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duce the project schedu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firm project feasibility (economic, schedule/time, technical, operationa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aff the pro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aunch the pro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324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371600"/>
            <a:ext cx="838044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with sco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creep = scope extends unwilling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487FBD-63DD-4DD5-B2BB-1EC3A739F49B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924680" cy="10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7160" indent="-31716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key words to drive the activities during analysis ar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iscove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derstand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Six primary activities are part of this ph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DO TO SOLVE TH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ther information to determine cause/effect of the problem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 system requirements. (e.g. Data requirements, security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 prototypes for discovery of require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oritize require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e and evaluate alterna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iew recommendations with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A6E2E1-D3B8-413B-B0EF-9169E7A3B3FB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924680" cy="10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4000" indent="-32400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lication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portion of the new system that satisfies the user needs in the problem domai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Ho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solve th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ollowing are the primary activities of the design pha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nd integrate the operating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the application architec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the user interfa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the system interfa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nd integrate the datab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e a prototype for design alternati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and integrate the system contr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-108000" y="430200"/>
            <a:ext cx="8750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1240" indent="-28404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Font typeface="Monotype Sorts" charset="2"/>
              <a:buChar char="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sign phase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he phase of the SDLC in which the system and programs are designe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0231CE-6A11-46F2-A990-BEE1F3807C77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924680" cy="10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5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phase of the SDLC in which the new system is programmed and install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implementation phase includes all those activities that occur between the design of the system and placing the new system in production. The text emphasizes the difference between the term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stall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Implementation consists of the following six activities that are needed to bring a system into produc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 software compon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ify and te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type for tu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t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in users and document the syst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all the system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46200" y="527040"/>
            <a:ext cx="42750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41240" indent="-28404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Font typeface="Monotype Sorts" charset="2"/>
              <a:buChar char="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mplementation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2232BD-9F43-4E92-A7CE-F0657A98A3AB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DLC and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ilar to problem-solving approach in 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8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ganization recognizes problem (project planning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8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 team investigates, understands problem and solution requirements (analysis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8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ution is specified in detail (design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8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 that solves problem is built and installed (implementation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8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 used, maintained, and enhanced to continue to provide intended benefits (support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79DA0F-99B2-4A90-B81D-3CD154F6CE26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fall” Approach to the SD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763120" cy="46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515A9C-32F9-4B8D-9180-47EA06EA3FDE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ified Waterfall Approach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Overlapping Phas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Figure 2-5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61084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514E4E-ECB5-4F33-B019-E79912992C4C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er Adaptive Approaches to the SD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d on spir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ject cycles through development activities over and over until project is comple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totype created by end of each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cuses on mitigating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erati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ork activities are rep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92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iteration refines previous res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92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roach assumes no one gets it right the first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92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are a series of mini projects for each it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06FA81-C5D3-44AB-AD3E-E1EE5B9D3647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piral Life Cycle Mode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Figure 2-6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553440" cy="52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2EB916-000B-46EA-9407-6F6A9805E6E7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the purpose and various phases of the systems development life cycle (SDLC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when to use an adaptive approach to the SDLC in place of a more predictive traditional S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the differences between a model, a tool, a technique, and a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 the two overall approaches used to develop information systems: the traditional method and the object-orient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F6DA9C-63B9-4F30-BEBB-845AE34EA7FA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eration of System Development Activities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Figure 2-7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997360" y="380880"/>
            <a:ext cx="54306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1F4E2B-48CF-4E6F-8982-7EBFAEDEAF09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ities of Each SDLC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dictive or adaptive approach use SD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ities of each “phase” are sim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ases are not always sequ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ases can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ities across phases can be done within an it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688637-B4DA-4114-BA49-1742DDE547E9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ities of Planning Phase of SD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e business problem and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e detailed project sched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rm project feasi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conomic, organizational, technical, resource, and sche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 the project (resource management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unch project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ficial annou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AC621B-D031-4409-9C0B-DE84B14938AE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ities of Analysis Phase of SDLC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fies what should be done to solve the problem but NOT HOW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sis=logical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ther information to learn problem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 system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 prototypes for discovery of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oritiz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te and evaluate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recommendations with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ED72AC-6BCC-4FE7-9B6C-F9BD6EB85CCC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219320" y="2514600"/>
            <a:ext cx="1676160" cy="129528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334120" y="2666880"/>
            <a:ext cx="2209680" cy="106704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2895480" y="2743200"/>
            <a:ext cx="23623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7AD227-AA27-463F-A81D-8854A8614C13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ities of Design Phase of SD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ign and integrate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ign the application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ign the user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ign the system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ign and integrate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for design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ign and integrate system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678452-A312-4648-8F06-6F40D573F04D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ities of Implementation Phase of SD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4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uct softwar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4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ify and t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4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r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4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n users and document the syste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4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all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13BC49-7FDA-4E38-8889-0A4759617617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ities of Support Phase of SD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mall patches, repairs, and up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hanc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mall upgrades or enhancements to expand system capa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rger enhancements may require separate development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lp desk and/or support te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4966F3-F263-4EAF-BCEF-77A7CC6249C0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457200" y="57150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ationships Among Components of a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10480" cy="39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D7D75B-DA30-4640-A385-E5BABBC0D1BF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hodologie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rial"/>
              </a:rPr>
              <a:t>Method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mprehensive guidelines to follow for completing every SDLC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llection of models, tools, and techn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rial"/>
              </a:rPr>
              <a:t>Mode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presentation of an important aspect of real world, but not same as real 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bstraction used to separate out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agrams and ch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ject planning and budgeting a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8AD15E-4E0E-49B9-90D7-A1F30B482974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Objective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 some of the variations of the systems development life cycle (SDLC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 the key features of current trends in systems development: the Unified Process (UP), Extreme Programming (XP), Agile Modeling, and Sc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lain how automated tools are used in syste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CED456-E0C8-40A7-A2F2-F4B1D802109A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Models Used in System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45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9D4563-B249-41FD-B524-B85BD47B1DA6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ls and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ftware support that helps create models or other required project componen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ange from simple drawing programs to complex CASE tools to project management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llection of guidelines that help analysts complete a system development activity or ta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n be step-by-step instructions or just general 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567178-0780-4EAD-88F3-07862423880A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457200" y="5715000"/>
            <a:ext cx="78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Tools Used in System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8839440" cy="29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173CA4-4C31-4F46-A77A-96D98F0AE031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Techniques Used in System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33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E48CC8-E10D-4B89-9B76-597E0367E292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Approaches to System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rial"/>
              </a:rPr>
              <a:t>Traditional approach</a:t>
            </a:r>
            <a:r>
              <a:rPr b="0" lang="en-GB" sz="24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so called structured system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ructured analysis and design technique (SADT)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cludes information engineering (IE)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rial"/>
              </a:rPr>
              <a:t>Object-orien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so called OOA, OOD, and O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iews information system as collection of interacting objects that work together to accomplish t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FA6EA4-A8C7-43AB-B777-20996746F585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ition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rial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roves computer program qu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ows other programmers to easily read and modify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ch program module has one beginning and one e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ree programming constructs (sequence, decision, repetition)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28CBFF-B9A8-4514-AF9E-49F1F86E5BCA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ee Structured Programming Constr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153280" cy="52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068E70-8564-4259-9EB4-695F2D3E0045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p-Down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vides complex programs into hierarchy of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dule at top controls execution by “calling” lower level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ular programm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imilar to top-down programm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program calls other programs to work together as sing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966FBC-6882-458B-B863-FC441BB67AC6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p-Down or Modular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866EFA-6DF8-43B7-AF91-A57D8EB47584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d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14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8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 developed to provide design guide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set of programs should 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at program should accompl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ow programs should be organized into a hier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ules are shown with structur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principle of program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osely coupled – module is independent of other mod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ighly cohesive – module has one clear ta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85C7DB-63D8-43AE-BBF8-FF7E5CABD336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 development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lanned undertaking with fixed beginning and 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duces desired result or produ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an be a large job with thousands of hours of effort or a small one-month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development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s a detailed plan to fol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rganized, methodical sequence of tasks and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duces reliable, robust, and efficient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8B021C-80C0-49E3-B171-4116DF848F49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 Chart Created Using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d Desig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25832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CE4DA2-7FE7-43B6-80BE-AB2AB7985CF7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e what system needs to do (processing requirements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e data system needs to store and use (data requirements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e inputs and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e how functions work together to accomplish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flow diagrams (DFD) and entity relationship diagrams (ERD) show results of structure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6C0CDD-3240-4481-8FCE-A57F0367B78E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3760"/>
            <a:ext cx="7924680" cy="15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 Flow Diagram (DFD) Created Using Structured Analysis Techniqu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Figure 2-15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5A3DBD-8B87-45D4-BE0F-A1960A3F5B88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3760"/>
            <a:ext cx="7924680" cy="15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ity-Relationship Diagram (ERD) Created Using Structured Analysis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33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4586FF-2410-4009-9088-B8D208CD2D64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d Analysis Leads to Structured Design and Structured Programm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Figure 2-17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57200" y="1576440"/>
            <a:ext cx="838188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4D47B2-5530-4888-B5C9-A3220E39693D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Engineering (IE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inement to structure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ology with strategic planning, data modeling, automated tools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rigorous and complete than SA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ustry merged key concepts from structured development and information engineering approaches into traditional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4B0ABC-D0FF-4983-98DF-0DD8728CD6B3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-Orient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tely different approach to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ews information system as collection of interacting objects that work together to accomplish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99cc"/>
                </a:solidFill>
                <a:latin typeface="Arial"/>
              </a:rPr>
              <a:t>Objec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hings in computer system that can respond to mess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ceptually, no processes, programs, data entities, or files are defined – just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O languages: Java, C++, C# .NET, VB 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EB5F9C-B17B-45F3-B07A-C997009FD2FA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-Oriented Approach to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54380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8B626D-0A3B-49CB-9BED-3BB74F8CE638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-Oriented Approach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8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99cc"/>
                </a:solidFill>
                <a:latin typeface="Arial"/>
              </a:rPr>
              <a:t>Object-oriented analysis (OOA)</a:t>
            </a:r>
            <a:r>
              <a:rPr b="0" lang="ar-SA" sz="2400" spc="-1" strike="noStrike">
                <a:solidFill>
                  <a:srgbClr val="0099cc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s types of objects users deal wi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ows use cases are required to complete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99cc"/>
                </a:solidFill>
                <a:latin typeface="Arial"/>
              </a:rPr>
              <a:t>Object-oriented design (OOD)</a:t>
            </a:r>
            <a:r>
              <a:rPr b="0" lang="ar-SA" sz="2400" spc="-1" strike="noStrike">
                <a:solidFill>
                  <a:srgbClr val="0099cc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fines object types needed to communicate with people and devices in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ows how objects interact to complete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fines each type of object for implementation with specific language of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99cc"/>
                </a:solidFill>
                <a:latin typeface="Arial"/>
              </a:rPr>
              <a:t>Object-oriented programming (OOP)</a:t>
            </a:r>
            <a:r>
              <a:rPr b="0" lang="ar-SA" sz="2400" spc="-1" strike="noStrike">
                <a:solidFill>
                  <a:srgbClr val="0099cc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riting statements in programming language to define what each type of object do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71B737-7022-4835-8ECF-40FEA17304F5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 Diagram Created During OO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52280" y="1414440"/>
            <a:ext cx="8839440" cy="47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324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371600"/>
            <a:ext cx="838044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que experienc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 start and an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up of interrelated, dependent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ctivity consumes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= time+ equipment+ material+money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s a product/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579BEF-5ECE-4AAD-86AB-ACA26012CCB6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DLC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08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14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variations of SDLC i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sed on variation of names for ph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 matter which one, activities/tasks are simi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14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increase emphasis o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r-centered design, participatory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ociotechnical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14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increase speed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apid application development (RAD)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3680" indent="-281160">
              <a:lnSpc>
                <a:spcPct val="10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toty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80D038-4C77-41E4-A883-B6E068785067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Cycles with Different Names for Phas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Figure 2-20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34160" cy="50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B143DF-7D3A-4A93-9076-C187C93DA0FE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Trends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daptive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Unified Process (UP)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treme Programming (XP)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gile Mode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cr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tails on each in Chapter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35D2E9-ACF4-4CE6-9EB1-1DFE1C2D35F5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Unified Process (UP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-oriented developmen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fered by IBM / Rat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ooch, Rumbaugh, Jacob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fied Modeling Language (UML) used primarily for mode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ML can be used with any OO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P defines four life cycle ph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ception, elaboration, construction, tran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8B54AC-927B-4E08-A0CF-013AF1F3D48A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Unified Process (UP)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nforces six best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 iterativ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fine and manage system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 component architec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reate visu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ify qu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trol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4397DD-FB29-404E-80F6-2972CC73E85C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eme Programming (XP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99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ent, lightweight, development approach to keep process simple and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s system support needed and required system functionality through informal user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users describe acceptance tests to demonstrate defined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ies on continuous testing and integration, heavy user involvement, programming done by small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779142-B704-4778-B2B7-85DBD9D9909A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ile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8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brid of XP and UP (Scott Ambler); has more models than XP, fewer documents than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active and Incremental Mod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ly right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e several models in parall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del in small inc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et active stakeholder particip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collective owne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del with others and display models public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55E26E-C6C7-42BC-ACDE-8BBD0C0B7EC4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gile Modeling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57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 simple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pict models simp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e simplest modeling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sider test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ve model is right with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8EBBAE-EC68-48E0-8C34-EB6DD047F4BB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highly adaptive projec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ond to situation as rapidly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rum refers to rugby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oth are quick, agile, and self-organiz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 retains control over pro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ues individuals over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0B556A-31D1-478F-86BA-515E0459A7B3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ols to Support System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r-aided system engineering (CASE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192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utomated tools to improve the speed and quality of system development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192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ains database of information about system called </a:t>
            </a:r>
            <a:r>
              <a:rPr b="0" lang="en-GB" sz="2200" spc="-1" strike="noStrike">
                <a:solidFill>
                  <a:srgbClr val="0099cc"/>
                </a:solidFill>
                <a:latin typeface="Arial"/>
              </a:rPr>
              <a:t>repos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per CAS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upport for analysis an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er CAS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upport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CAS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tegrated CAS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called visual modeling tools, integrated application development tools, and round-trip engineer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71628A-935C-4C8F-B935-BC56445D17C7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stems Development Lifecycle (SDLC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s development life cycle (SDLC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26964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vides overall framework for managing systems developmen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main approaches to SD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26964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dictive approach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ssumes project can be planned out in advance (i can almost accurately estimate time and mone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26964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aptive approach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more flexible, assumes project cannot be planned out in adv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projects use some variation of SD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01CBF5-B6B4-41DF-81E4-3EBE47538CFE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SE Tool Repository Contains All System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48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949659-112B-4BD5-AC9D-559F934918CA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 development projects are organized around the systems development life cycle (SDL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projects use a predictive approach to the SDLC, and others use a more adaptive approach to the SDL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DLC phases include project planning, analysis, design, implementation,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74E74C-3B7C-4B99-AA8A-FF108B7FB7F0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practice, phases overlap, and projects contain many iterations of analysis, design, and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s, techniques, and tools make up a system development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 development methodology provides guidelines to complete every activity in the SD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93CD48-6209-44C9-98F6-20E08D0521CB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 development methodologies are based on traditional approach or object-orien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trends include: Extreme Programming (XP), Unified Process (UP), Agile Modeling, and Sc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SE tools are designed to help analysts complete system development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116765-27DC-46D8-823B-CD5223D618F0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osing the Predictive vs. Adaptive Approach to the SDLC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Figure 2-1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52280" y="2009880"/>
            <a:ext cx="88394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324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IES OF ‘GOOD’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0440" cy="49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7160" indent="-31716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ILITY= will the system be as efficient in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= does it function/do what is  supposed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= fast, does not use much storage unnecessar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=correctness, no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93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= easy to use by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0" y="6553080"/>
            <a:ext cx="69325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Systems Analysis and Design in a Changing World, 4th E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7010280" y="6477120"/>
            <a:ext cx="213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0B7D77-A3AC-4DFF-8859-562FBAC4D9F4}" type="slidenum">
              <a:rPr b="0" lang="en-GB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3760"/>
            <a:ext cx="7924680" cy="15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itional Predictive Approach to the SDLC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System Development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3233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Hedrington</dc:creator>
  <dc:description/>
  <dc:language>en-US</dc:language>
  <cp:lastModifiedBy>moughrabi.i</cp:lastModifiedBy>
  <dcterms:modified xsi:type="dcterms:W3CDTF">2010-07-01T09:10:07Z</dcterms:modified>
  <cp:revision>15</cp:revision>
  <dc:subject/>
  <dc:title>Chapter 2</dc:title>
</cp:coreProperties>
</file>